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34476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4419360" y="0"/>
            <a:ext cx="334476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397160" y="761760"/>
            <a:ext cx="497016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066680" y="4800600"/>
            <a:ext cx="563112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441936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7611A-0374-42DA-9625-FDBF7C4A7498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A91B0-8D45-444B-80A1-C10B330A3B4D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E1695-6FE9-4E6B-AA84-7C12B6D1DA4E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F2E88-50D8-4D4D-A37B-7694F45C8D68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F3EBB-055B-4AC0-B5F2-12C93CCC2194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1F409-D973-4973-A9B5-6A00D08066FA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383B1-6AAD-48C4-91E0-36D657E7FC91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6AE52-AD80-4726-A595-4A43E840C6AF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811C0-C3E6-442A-852C-9F02538D9AF2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397160" y="762120"/>
            <a:ext cx="4976640" cy="37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FE39B-B556-45D5-9D8B-84FE6CF0F6CD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5D817-E8A5-4175-8DA3-913AD07133AF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DACE4-C4E8-490D-B6CB-8F4141879FCA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08495-2994-4B41-989E-149F35400E9D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0E2FB-6167-49A6-9BAE-4ED277376282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371600" y="763560"/>
            <a:ext cx="501984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CB0ED-3289-47C4-9C93-CFB828F21268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63474-284E-427C-A5F4-997AD432260D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14F3A-8EF0-4E79-84D6-10BB90345809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0B464-F7A1-4898-B4C7-CE085F2F0CF3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1371600" y="763560"/>
            <a:ext cx="5021280" cy="376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6F88C-C27B-46D3-B9EE-D1FDFAC23896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371600" y="763560"/>
            <a:ext cx="501984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EA5CC-B3B8-4E03-8A78-87A01FA42D8A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397160" y="762120"/>
            <a:ext cx="4976640" cy="37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68727-A2E1-4BF8-9CF1-10F31C52BABB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8EC94-673A-4711-83DA-E0ABEACAF143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1371600" y="763560"/>
            <a:ext cx="501156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1F932-CF70-4A11-96B3-907CC9B6CC8E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86B1D-A0BB-4F1D-B3D5-F0F3E4E58E63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371600" y="763560"/>
            <a:ext cx="501156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8A8CC-B0CF-44FE-B131-C962DFF88444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1397160" y="762120"/>
            <a:ext cx="49734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2BF63-3419-4107-8BB8-D2C8E01CDC08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"/>
          <p:cNvSpPr/>
          <p:nvPr/>
        </p:nvSpPr>
        <p:spPr>
          <a:xfrm>
            <a:off x="1371600" y="763560"/>
            <a:ext cx="501156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8DD77-C42C-4EA4-AD50-A5BE555C7DE7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1397160" y="762120"/>
            <a:ext cx="497340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C88B0-AF93-4942-ADE3-D49492D9342C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1371600" y="763560"/>
            <a:ext cx="501156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A651E-36DD-413E-86C4-34B19F69D02B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12DF3-F9C2-4331-B53B-C18684E334EB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E330C-FBC4-4C41-90AB-BB3E3A04947B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C5493-E2C5-47CD-9463-0BD2EC751B75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D6A4C-43C6-42B9-9DC5-E583C5CF3162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601A1-A17A-4FE7-8034-45D280EF8586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371600" y="763560"/>
            <a:ext cx="502596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9AC29-3A90-4720-B15E-C16CFCF8D455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1"/>
          <p:cNvSpPr/>
          <p:nvPr/>
        </p:nvSpPr>
        <p:spPr>
          <a:xfrm>
            <a:off x="4419720" y="9523440"/>
            <a:ext cx="33447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41288-A3BD-4B0B-97E0-158186ECB52E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066680" y="4800240"/>
            <a:ext cx="563256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A10E-80E7-4DEE-B68F-BA1EBAC15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904248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919040"/>
            <a:ext cx="904248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6827-3E04-4DC0-894D-E453B8A3D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0760" y="23274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91904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90760" y="491904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768AF-DB40-4AF2-9CFB-A5B744F52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4320" y="232740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71800" y="232740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91904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4320" y="491904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71800" y="4919040"/>
            <a:ext cx="29113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6A13-620E-44E2-8430-DDF07EC5F3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327400"/>
            <a:ext cx="904248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1342-E173-49D2-A267-F7F5C36A07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904248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38898-5559-4FDF-A2A9-D79BA3517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44125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90760" y="2327400"/>
            <a:ext cx="44125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6040-60E1-45B3-906E-E77A28836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BCC84-5E56-4985-81C7-1A5EF8680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440" y="1274760"/>
            <a:ext cx="9042480" cy="41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DD4E8-9B40-44F9-9748-A253859CA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0760" y="2327400"/>
            <a:ext cx="44125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91904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CB5CC-6B70-4777-AC2D-411C69D92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44125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0760" y="23274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90760" y="491904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D97A-C41A-486E-BD1E-AEEEF5DA4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90760" y="2327400"/>
            <a:ext cx="441252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919040"/>
            <a:ext cx="9042480" cy="2366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5737-7C70-4488-BEB4-6A7D1A195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440" y="1274760"/>
            <a:ext cx="904248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27400"/>
            <a:ext cx="904248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5760" y="6932160"/>
            <a:ext cx="31669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7360" y="6886080"/>
            <a:ext cx="23194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6B0C1-52BD-4164-96A8-5A7D12989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488880" y="419040"/>
            <a:ext cx="9078840" cy="6937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519120" y="2160720"/>
            <a:ext cx="9047160" cy="3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1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"/>
          <p:cNvSpPr/>
          <p:nvPr/>
        </p:nvSpPr>
        <p:spPr>
          <a:xfrm>
            <a:off x="1143000" y="2743200"/>
            <a:ext cx="77724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TFS for Embedded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an-Pierre And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 16,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8760" y="1255320"/>
            <a:ext cx="906948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st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named data stream : the usual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data streams (A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properties of the file (author, summary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attributes for user o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torage modes for 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the root of the file (small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hed, 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8760" y="1317600"/>
            <a:ext cx="906948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e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irectories and special files (eg A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s the number of s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llat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process case-sensitive and case-insensitive keys in the sam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1271520"/>
            <a:ext cx="906948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to the user o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Z77 algorithm (akin to z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 compression level (about one half for plain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 not stored (sparse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 acts independently on fixed size blocks (4096 bytes) stored by groups of 16 uncompressed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any location without decompress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ful for slow devices and limite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8760" y="1412640"/>
            <a:ext cx="90694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ars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defining some processing for accessing a file/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to a volume defined as a device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to a directory defined as a device address to th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d on th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ic links (since 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to a directory o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or rel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d on th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4600" y="1319040"/>
            <a:ext cx="906948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to the user, after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pplied to all stream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encrypted with a symmetr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encrypted with public keys of each allowed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9120" y="1412640"/>
            <a:ext cx="90676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 Control (AC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9067680" cy="501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L for each file defines which users are allowed to access the file, and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or group is identified by a 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 S-1-5-21-3141592653-589793238-462643383-1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ccess mode is identified by a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 read, append, execute, read extended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ACE to be processed in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CL is a list of 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CE is a (user, mode)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s may be defined as inherited from parent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7080" y="1273320"/>
            <a:ext cx="9048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actions (aka journall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327400"/>
            <a:ext cx="90486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keep storage integrity despite comm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lean unmounting (pulling the USB c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action is processed as a transactional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 file, a directory, changing the protec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internal action an undo/redo record is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le : update directory, update index, update bitmap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nsaction is committed when the set of user actions is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ounting, the unfinished transactions are un/re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 do not protect against hardware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8760" y="1412640"/>
            <a:ext cx="90694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ility to recover damag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ensitive data are du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t, MFT, AC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wanted deletion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ot inode may be identified and revali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uster allocation table is specific p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wanted 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odes and allocation tables may b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wanted re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partition beginning has to be re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 commercial recovery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1360" y="1317600"/>
            <a:ext cx="906768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 - NTFS-3G, curren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90676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rs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080" y="1319040"/>
            <a:ext cx="90630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300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FS-3G is an open implementation of NT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enerally relies on 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: an OS plugin to hijack file system calls to a user-mode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mpiled for 32-bit or 64-bit 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support for both endian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ed to numerous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inux), MacOS X, FreeBSD, Solaris, etc. (through FUSE or li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ed systems (FUSE or direct into the 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nteroperable with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230120"/>
            <a:ext cx="90676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s for Windows storage interoper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90676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-attached Storage devices (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entertainment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top boxed, IPTV, DTV, audio/video players and recorders, game cons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-boot solutions: Linux based systems on 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-on-a-chip (SoC) solutions, with a dedicated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ing expe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, forensics, intelligence, military, data collecto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ored locally and processed later on Windows or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7440" y="1319040"/>
            <a:ext cx="90612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x conform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156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unctions : read, write, directory list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F-8 fi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links, symbolic links, pipes, devi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: modification, access, attribu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ship and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7080" y="1319040"/>
            <a:ext cx="90630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300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upport for compressed file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d appending to fil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se compressed fil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writing not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1240" y="1271520"/>
            <a:ext cx="90630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ars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300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points and symlinks made to appear as symbolic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es and device letter not directly 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first searched as a mount file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defined, target searched in current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with case in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d for use with case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080" y="1319040"/>
            <a:ext cx="90630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359080"/>
            <a:ext cx="90630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backup/restore without decryp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pport for encrypting/decryp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7080" y="1319040"/>
            <a:ext cx="90630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300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Ls are approximated to Posix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x for owner, group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x ACL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s and groups have to be mapped explici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 to uid/gi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s to new files are set according to umask or Posix type inheri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Windows-like inheritance on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5280" indent="-665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5280"/>
                <a:tab algn="l" pos="777960"/>
                <a:tab algn="l" pos="1235160"/>
                <a:tab algn="l" pos="1692360"/>
                <a:tab algn="l" pos="2149560"/>
                <a:tab algn="l" pos="2606760"/>
                <a:tab algn="l" pos="3063960"/>
                <a:tab algn="l" pos="3521160"/>
                <a:tab algn="l" pos="3978360"/>
                <a:tab algn="l" pos="4435560"/>
                <a:tab algn="l" pos="4892760"/>
                <a:tab algn="l" pos="5349960"/>
                <a:tab algn="l" pos="5807160"/>
                <a:tab algn="l" pos="6264360"/>
                <a:tab algn="l" pos="6721560"/>
                <a:tab algn="l" pos="7178760"/>
                <a:tab algn="l" pos="7635960"/>
                <a:tab algn="l" pos="8093160"/>
                <a:tab algn="l" pos="8550360"/>
                <a:tab algn="l" pos="9007560"/>
                <a:tab algn="l" pos="9464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access flags emulated (sticky, setuid, setg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7440" y="1319040"/>
            <a:ext cx="90612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l NTF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156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set data not reachable by Posix-typ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attributes (readonly, hidden, system, archiv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rs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FS A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(100ns resolution, incl creation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6720"/>
                <a:tab algn="l" pos="779400"/>
                <a:tab algn="l" pos="1236600"/>
                <a:tab algn="l" pos="1693800"/>
                <a:tab algn="l" pos="2151000"/>
                <a:tab algn="l" pos="2608200"/>
                <a:tab algn="l" pos="3065400"/>
                <a:tab algn="l" pos="3522600"/>
                <a:tab algn="l" pos="3979800"/>
                <a:tab algn="l" pos="4437000"/>
                <a:tab algn="l" pos="4894200"/>
                <a:tab algn="l" pos="5351400"/>
                <a:tab algn="l" pos="5808600"/>
                <a:tab algn="l" pos="6265800"/>
                <a:tab algn="l" pos="6723000"/>
                <a:tab algn="l" pos="7180200"/>
                <a:tab algn="l" pos="7637400"/>
                <a:tab algn="l" pos="8094600"/>
                <a:tab algn="l" pos="8551800"/>
                <a:tab algn="l" pos="9009000"/>
                <a:tab algn="l" pos="9466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S Info (table of encrypted encryption ke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7080" y="1273320"/>
            <a:ext cx="9048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2327400"/>
            <a:ext cx="90486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yet, not perceived as a priority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iring is enough for most users, more reliably than on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+hardware have to guarantee sequence points (“barrier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w writes until all previous writes have been sec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ordering of writes between sequence points a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with all contro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currently on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9320" indent="-679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lean unmount is detected at next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932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ed to run an integrity fi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90676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tprint and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90676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KB code per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KB shared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0KB heap (per m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KB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7440" y="1319040"/>
            <a:ext cx="905328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cen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536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L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d as a standard package in most Linux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ora, Ubuntu, Suse, Debia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s have signed an agreement with Tuxera for dual lic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30120"/>
            <a:ext cx="90676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I - Tuxera NT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90676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native read/write kernel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NTFS-3G, developed by sam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for high-performance and embedde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memory &amp; CPU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threaded, reentrant, SMP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portable, wide CPU and kernel ver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7440" y="1319040"/>
            <a:ext cx="905328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NTF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327400"/>
            <a:ext cx="9053640" cy="49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storage needs an interoperable 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plugged elsewhere for further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devices are being formated as NTFS from 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has been FAT32, but it is phas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GB max file size (no DVD r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inefficient for large storage (no bitmap, btree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32GB SD cards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set, and fixed-size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7440" y="1273320"/>
            <a:ext cx="90453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xer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457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urc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reverse engineered NT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re developing and maintaining the Linux kernel driver, ntfsprogs, the Linux-NTFS and NTFS-3G open source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experienced in technology &amp; intellectual property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, licensing, patents, anti-competition, OEM, embedde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7440" y="1319040"/>
            <a:ext cx="905328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xera NTFS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536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or better than popular Linux fi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copy, direct 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ing internal copies and cach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large and small block siz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 specific operation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ode : no cacheing of larg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565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mode : cacheing, except O_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7440" y="1273320"/>
            <a:ext cx="90453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2327400"/>
            <a:ext cx="904572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035000" y="2219400"/>
            <a:ext cx="7790040" cy="51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7440" y="1319040"/>
            <a:ext cx="905328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xera licen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536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-core, dual-lic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MySQL, Berkeley DB, QT, Asterix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licensing, and compatible with working on ope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 is a key to softwar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360" y="1230120"/>
            <a:ext cx="90694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l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xera signed an exFAT intellectual property agreement with Microsoft (Aug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FAT is another file system promoted by 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xera signed an interoperability alliance agreement with Microsoft (Aug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s alliance to share information on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working with Microsoft on clarifying NTFS leg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year of discussions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4920" indent="-560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known NTFS IP violation in Tuxera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4640" indent="-674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464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xera is actively participating and financially supporting legal entities to fight for Free Software and against anti-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9120" y="1412640"/>
            <a:ext cx="90662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9066240" cy="492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2040" indent="-662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FS-3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1680" indent="-55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ntfs-3g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2040" indent="-662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NTFS-3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1680" indent="-55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agesperso-orange.fr/b.an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2040" indent="-662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x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1680" indent="-55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uxer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1680" indent="-55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uxera.com/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2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62040"/>
                <a:tab algn="l" pos="774720"/>
                <a:tab algn="l" pos="1231920"/>
                <a:tab algn="l" pos="1689120"/>
                <a:tab algn="l" pos="2146320"/>
                <a:tab algn="l" pos="2603520"/>
                <a:tab algn="l" pos="3060720"/>
                <a:tab algn="l" pos="3517920"/>
                <a:tab algn="l" pos="3975120"/>
                <a:tab algn="l" pos="4432320"/>
                <a:tab algn="l" pos="4889520"/>
                <a:tab algn="l" pos="5346720"/>
                <a:tab algn="l" pos="5803920"/>
                <a:tab algn="l" pos="6261120"/>
                <a:tab algn="l" pos="6718320"/>
                <a:tab algn="l" pos="7175520"/>
                <a:tab algn="l" pos="7632720"/>
                <a:tab algn="l" pos="8089920"/>
                <a:tab algn="l" pos="8547120"/>
                <a:tab algn="l" pos="9004320"/>
                <a:tab algn="l" pos="94615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1316160"/>
            <a:ext cx="9070920" cy="7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TFS main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2664000"/>
            <a:ext cx="90709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capacity up to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map for allocator, Btree for inde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fragmentation and seek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for common 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77800" indent="-5634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2, Win32 and Unix by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, encryption, spars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8760" y="1368000"/>
            <a:ext cx="906948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4600" y="26636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FS designed ca 1985 for OS2 by IBM and 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eused by Microsoft with apparent input from V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1.x from NT 3.1 mid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1.2 : compression, named stream, A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3.0 in Win2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ing, quota, encryption, sparse files, repars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3.1 in WinXP up to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ic links, transactional NT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8760" y="1412640"/>
            <a:ext cx="90694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off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generations of GPLed development on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, led by Martin von Löwis (first release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-ntfs, led by Anton Altaparmakov (first release 20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fs-3g, led by Szabolcs Szakacsits (first release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x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59080" indent="-5446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fers ported to other platforms, and embedd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9120" y="1412640"/>
            <a:ext cx="90676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- NT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90676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60240"/>
                <a:tab algn="l" pos="773280"/>
                <a:tab algn="l" pos="1230480"/>
                <a:tab algn="l" pos="1687680"/>
                <a:tab algn="l" pos="2144880"/>
                <a:tab algn="l" pos="2602080"/>
                <a:tab algn="l" pos="3059280"/>
                <a:tab algn="l" pos="3516480"/>
                <a:tab algn="l" pos="3973680"/>
                <a:tab algn="l" pos="4430880"/>
                <a:tab algn="l" pos="4888080"/>
                <a:tab algn="l" pos="5345280"/>
                <a:tab algn="l" pos="5802480"/>
                <a:tab algn="l" pos="6259680"/>
                <a:tab algn="l" pos="6716880"/>
                <a:tab algn="l" pos="7174080"/>
                <a:tab algn="l" pos="7631280"/>
                <a:tab algn="l" pos="8088480"/>
                <a:tab algn="l" pos="8545680"/>
                <a:tab algn="l" pos="9002880"/>
                <a:tab algn="l" pos="9460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8760" y="1412640"/>
            <a:ext cx="90694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 of a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FT record + variable siz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information (times, versio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 of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ership and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stored the same way as ordinary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FT, bitmap, boot, bad sector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546120" y="6932520"/>
            <a:ext cx="3166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C Europe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8760" y="1412640"/>
            <a:ext cx="906948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e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327040"/>
            <a:ext cx="9069480" cy="49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255 chars (ISO 10646 UTF16LE : any mix of langu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32 and DOS : case insensitive, a few forbidden ch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x : cas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al file defines the lower to upper c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defined to support a non-standard alphab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links and short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8800" indent="-6588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reserved file names in the root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5200" indent="-5508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58800"/>
                <a:tab algn="l" pos="771480"/>
                <a:tab algn="l" pos="1228680"/>
                <a:tab algn="l" pos="1685880"/>
                <a:tab algn="l" pos="2143080"/>
                <a:tab algn="l" pos="2600280"/>
                <a:tab algn="l" pos="3057480"/>
                <a:tab algn="l" pos="3514680"/>
                <a:tab algn="l" pos="3971880"/>
                <a:tab algn="l" pos="4429080"/>
                <a:tab algn="l" pos="4886280"/>
                <a:tab algn="l" pos="5343480"/>
                <a:tab algn="l" pos="5800680"/>
                <a:tab algn="l" pos="6257880"/>
                <a:tab algn="l" pos="6715080"/>
                <a:tab algn="l" pos="7172280"/>
                <a:tab algn="l" pos="7629480"/>
                <a:tab algn="l" pos="8086680"/>
                <a:tab algn="l" pos="8543880"/>
                <a:tab algn="l" pos="9001080"/>
                <a:tab algn="l" pos="9458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first character is a '$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5:11:15Z</dcterms:created>
  <dc:creator>Linux </dc:creator>
  <dc:description/>
  <dc:language>en-US</dc:language>
  <cp:lastModifiedBy>Klaas van Gend</cp:lastModifiedBy>
  <dcterms:modified xsi:type="dcterms:W3CDTF">2009-10-16T08:41:56Z</dcterms:modified>
  <cp:revision>2</cp:revision>
  <dc:subject/>
  <dc:title>Aucun titre de diapositive</dc:title>
</cp:coreProperties>
</file>